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C8A8-769E-4E79-BD54-694EF332E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3699-F142-4E05-BE16-21A949C13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1A6D-EBA2-4AC2-AF5E-E07B813E4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43EC-2DA6-4961-A8B7-D919C93FB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8536-F4B8-404B-AD18-1AF1A1C8F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4F9C-5CDF-4AC8-A147-57D43BE3F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7C11-8752-4EC8-89DC-FFB8ECBE5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5444-4586-42ED-A99A-9FC564619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3756-E0B4-4045-A111-6A26D4784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3E99-05EB-462B-A0C1-76B7C9852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E8F7-9B01-4AEE-903F-9107F8A52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4433-0133-4DDB-9D78-FDA6F48BE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03ED-DE9B-4CFE-AA10-703077862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C7A6-0A84-49B3-A653-F0408FC72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D3EB-E896-4C4D-B351-421BAD98A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8539-7DB9-4F82-BD44-FA34915C3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4D15-0500-44BF-BDC5-B08BF9BB6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5F7F-EA2E-4757-B10D-F81462F83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77E6-4E27-4745-9B94-BA3E73205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0999-6A40-4AD4-B255-0FD0C5DF5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BBE9-AEBA-4AB7-BA88-379805C76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5A26-AA5D-4172-9BCA-BAC597DB4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E9F2-18F0-4F3E-A8A6-7EEC7E6B8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956B-44D4-42B6-AE01-384EE5403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3171-97DA-49D0-A58D-C586BCDD6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6C90-0593-45ED-A87D-88EB24829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110B-0B41-42B8-B2E5-E2F197464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2A9B-2628-49A0-BF99-484157907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F9E4-00A4-4B5E-8E3B-38D58F604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F97E-F9B6-4C05-91E6-3BB531224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D4FD-04EA-4265-A07A-FBC8FEF03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B510-374B-41C0-850B-C449F4F73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126E-267C-4410-8A01-AF06993B9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03F5-3848-4DF8-8375-40B28B2BF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E71C-CB02-4102-8A12-F9976BD8E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4A16-DD89-4E23-91B6-2691C24F1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2160-088B-4271-B3A1-DFAADDC25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306C-E90B-416F-BA25-E02F56BCF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808D-82E7-4467-9E89-E49227BDA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71D3-5A46-4B65-874B-DCD85CAD3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32A7-ADA4-4E01-8B99-ADD97D3E7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737B-57CB-4BF3-8285-A65A4731D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27DE-D54D-42CF-9B3F-93F37CD3A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0332-8DF3-48CC-8208-F85C40575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5D93-503F-4D78-BEEE-57703F535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3E4A-D10A-4422-87B2-1B697FF6A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CBF4-DAF1-4ADE-9EF0-43CF5FCC5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D089-1D17-4B95-9EA5-920B41204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8F08-01D9-47D9-ABA7-F74C2B2CA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7E6F-3568-41B1-BB38-351713B9F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95D4-6D28-4424-8963-3B626DB8F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3A7D-D44E-4F94-9F85-B3EAE7825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651-3D0A-4465-A4E5-FA094C71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486-4F12-48CD-8026-437B4980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9169F-A0D0-4170-A8BF-72F216FC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88F0B-261B-4DA7-8D7C-5A4C3FD0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10301-0C1B-4F2E-A227-61D508F7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03218-3D04-48F1-AEF5-D5E74E0D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069A5-3A59-4D94-9954-13BC3DF1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61672-32FC-402E-AD83-4B31A027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BF66E-D266-4D19-969C-FB7BD4A0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FA47A-6577-418A-AD01-36A8C701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58D7F-BFFA-483D-A487-4956F5B4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2E0B8-09D9-4427-8C5C-F22B6062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0AE-57EC-4318-AB64-82E4CEBF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DC7A4-56B0-46BE-823B-28B0AE81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92796-D440-4A15-894E-E3A79A93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1EC48-EC94-4EEC-AA0D-57158B5E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AE6F8-3AF0-4C06-8406-E990C7D3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C977E-60EE-40F8-9DEB-2E7717CC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7FF18-B7DC-4E06-800B-A51E5231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0EC31-5AC7-445C-AF96-D2E72937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D206D-E5C6-49E1-B8A9-45547C07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FD04D-CD7D-492A-B041-B6E44EAE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F81CF-029D-4152-8857-86983AC4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F06-C3A4-4537-BB48-6252B688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5033E-2080-4C85-A324-CA66AD1F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56543-7534-4C3F-A586-354947EC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FC090-7610-4EC2-BC28-95FD6030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D16D0-52B7-4AFE-9FAE-B8ED63B9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2001F-198E-46E6-AB3A-DAC2E8C5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1F5DD-DB7F-4FF6-A4A0-EE11F7B9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590F1-56D3-4FE5-B32E-1088313C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621BA-B5DE-4252-A059-47822536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DF6E5-A271-4EDD-8FB1-FAA0E6C2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CCAFE-13F3-4B6A-A027-E74E34F0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293E-97D8-4A67-815C-E7FCED81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F5F7B-5F3B-45D6-B7D0-290F725E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124A6-7D64-4EF8-83B4-597289A4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60AEC-C397-4499-B339-1DA8DE24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F2B92-330B-4082-AFE3-D45EAC6C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6B32E-7D49-407D-812D-35C340A0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758FF-D218-408B-B3A7-CA8922DF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4D433-2B32-4DE4-8823-36BCDDE6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4031F-6C1D-433B-8313-4F7E5E28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CE87F-783E-4930-9F3F-E9078F0D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CC1C0-BB72-4D35-A6F6-C4F9A90E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3579-52B7-47C8-99BF-786452F3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CC7C0-659E-48AE-8400-30C111F0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D7BAC-9A2B-4E34-8CB3-E43A6159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861CD-D187-4855-8666-EA3CE9AF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CFA61-D5C8-4533-AB06-6AE6DA31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CD4BC-804D-4EDB-86B7-B50BBFF4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6F62-E001-4FA7-A0D8-955516FC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E8EC-D584-4A7A-A286-AAF1F6B2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03A3-7BBD-4D72-8CA4-AC4578C9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7E48-1C42-4068-A6D8-14190E22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8234-ADA9-4EE6-B165-82E26EB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E96-29DB-41BD-B922-1E3CC7A6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666C-4C74-42D1-A96E-D6CCC7CD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156B-3BC1-4EB4-BB80-150AEEAE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2C64-6F6E-4ADC-B4CB-1C5FEB28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0A0B-61E4-4CBD-B018-6B3EE2DF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C6E6-4B3F-4515-A6F1-D3B4FE91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25F9-0462-4D8C-8259-DCE2D04C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6F26-BC0E-478A-B77C-B19C9048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40C53-5F83-4EC1-BBBB-53697AAC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6D4B-1882-4596-991B-7D849728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E445-D8E3-4196-A6B3-BCE03437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0F4-7365-4605-8D13-7F99AC9E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DCC75-7630-4317-B6D3-FBFB21FB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145C4-0587-49AA-A84B-47B002D0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6981-210F-40AF-A1DB-EA32A85F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AC0A-CB7F-412A-8AE3-567A6678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81C7-335D-4074-9DA8-00F9BB9E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5995B-88A6-4BA0-9E1D-A443035B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0ED82-2853-4F81-962E-2BAF7B33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C05D6-52E6-4530-BB16-0D720BB1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926E-C868-4F47-877A-C2450C62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D8B4B-4F0B-4595-BA0D-168EF503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7FF-3FA0-4A33-AD1A-15A2D8B6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9FB24-5E65-4689-B8C0-176F175C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FF1AF-5CA5-4383-818C-D566C83F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4895D-F978-425A-9D38-7AFE83D5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FFA4E-2EBA-4E3F-8B64-4D4A1778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2ECE-AD70-416B-B35F-8A8E1F04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7533-2233-44AF-B1DE-EF77CB8E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2A5F-3D37-4C7C-A5D3-9FD7B968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00CF5-764C-4AAB-9851-25B32988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82AEF-0996-48A0-9D0E-66ABE3C8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C0CB1-9C4D-4348-ACD4-00F15291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90C-7DAA-4FA1-9DA4-73706923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8AAFD-ED0C-41F3-A5DB-B391BF8B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F1427-2D3E-4441-B51B-38FFF76D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B214A-5C21-4820-BD58-6B24C496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066A6-8B12-4FCC-AC8F-9BE6B090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E312D-A851-42E5-858A-B04FCC7A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F8F47-F4D1-40AC-BB15-13BCFD5D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0F335-B0B5-49D1-8CB5-35C8FD38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02129-5235-4CEB-9A25-FC1EA5F9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A7557-BA9D-4714-B1D6-BBD0C3E5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2BA36-29E8-4E07-A397-8DEFA7DF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E1E-0B60-4B1F-8B1C-DD772028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FBBE-7F26-417A-BF96-5AEB3542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89D76-B4A3-4D4E-AA07-0AF7B4F0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30E4E-56C0-4F12-8116-6260C72D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03528-AA4B-48C8-9621-F959A9C0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7CDEC-1F25-49B0-8EA3-E7302565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79554-4EC7-4474-B61C-576AD597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D3921-CE2B-4C79-9F6D-46E6E17D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23F00-C4D1-40E6-BF80-577A9EBB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ED768-16AF-4DD4-ADAD-58E6CCE7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A425D-F412-4522-B014-2D256287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CD1-3DFE-4E16-BF41-D1937A55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020C4-DBD7-4AEF-B229-81FB1CB7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AC2B3-50DA-406C-BAE3-7585A786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826EB-3A19-45D4-98A3-EF2449DE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F7AAC-5127-47E4-9B3C-2F35F171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28CF0-2ECB-4EF1-B1B5-F854D437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4A24D-C882-4231-B89B-EF7BC6DB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7B3A4-4F46-483C-9A55-71CC369F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B1D4A-9C7F-4EF6-818F-BD3747F2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1800A-0D94-41C2-88E4-2EE260AB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7B782-3936-4C73-974A-ED3C20F1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3FA-6A42-4AD2-84EA-E354DB82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ECC86-FFB0-483C-BE54-C1E74137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D4245-F2FB-4A37-97E5-69B23EDD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E18A2-3E29-418D-87E2-F13C0D19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855BB-2777-43EC-941D-41D1A896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98134-93C2-4410-B63A-D75E1991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2BEE5-21A7-4633-A714-57C137AD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C8FFA-08EE-4CE9-8FB8-D9863E4F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15497-A9D7-4F30-94AB-E9AD30B5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13867-57D1-4568-8460-564F731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C20F8-D0A8-4BCA-982A-D3F46B55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54D-0E95-4063-A3E2-17EF7F6B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19895-89B7-4138-A864-8BD5B388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18A6F-B2DB-47CC-B8A8-610A0973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57208-C39A-4A70-BBBD-0CE9DA4E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BF5BC-9E00-486D-9CFD-B2FC6441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361C1-E924-43C3-B392-1D0A5226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DCA62-4EFF-494B-8609-F383E210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1BEE0-715B-4DB0-8554-01BDC523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8561F-CC83-47CF-A784-226478C0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950FB-C276-45AC-A408-144E93F0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40258-E391-434B-9F5C-FED1C0B3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9263-A768-4249-999C-0508ED520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AAA9-5104-4BF8-9885-4854B7A5F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AD61-C0B6-4FCA-8423-316578484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A098-C362-4C42-97E2-194CECC5E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FA8C-6266-4631-A3D8-ACA7D3992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75CF-32F9-4319-9C2B-ADCE14AB6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1885-358E-417A-B4F6-17BC3CECE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7BB7-5B01-4E7E-9D20-9AE0BD078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4D6D-30F3-4068-8087-042DD4874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FC1F-53A3-4F27-A647-87C3A5DED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B80C-B680-40DE-AC96-B763E92BD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903C-8633-488D-84A3-8B0EC0385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Layout" Target="../slideLayouts/slideLayout85.xml"/><Relationship Id="rId3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21932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2394" h="21600">
                <a:moveTo>
                  <a:pt x="0" y="0"/>
                </a:moveTo>
                <a:lnTo>
                  <a:pt x="32394" y="0"/>
                </a:lnTo>
                <a:lnTo>
                  <a:pt x="32394" y="21600"/>
                </a:lnTo>
                <a:lnTo>
                  <a:pt x="0" y="21600"/>
                </a:lnTo>
                <a:close/>
              </a:path>
              <a:path fill="lightenLess" w="32394" h="21600">
                <a:moveTo>
                  <a:pt x="0" y="0"/>
                </a:moveTo>
                <a:lnTo>
                  <a:pt x="32394" y="0"/>
                </a:lnTo>
                <a:lnTo>
                  <a:pt x="30994" y="1400"/>
                </a:lnTo>
                <a:lnTo>
                  <a:pt x="1400" y="1400"/>
                </a:lnTo>
                <a:close/>
              </a:path>
              <a:path fill="darken" w="32394" h="21600">
                <a:moveTo>
                  <a:pt x="32394" y="0"/>
                </a:moveTo>
                <a:lnTo>
                  <a:pt x="32394" y="21600"/>
                </a:lnTo>
                <a:lnTo>
                  <a:pt x="30994" y="20200"/>
                </a:lnTo>
                <a:lnTo>
                  <a:pt x="30994" y="1400"/>
                </a:lnTo>
                <a:close/>
              </a:path>
              <a:path fill="darkenLess" w="32394" h="21600">
                <a:moveTo>
                  <a:pt x="32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4" y="20200"/>
                </a:lnTo>
                <a:close/>
              </a:path>
              <a:path fill="lighten" w="32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rry’s boy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why Ponyboy likes to go to the movies 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can get into them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Johnny is so qui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his parents are mean to him OR he got beat up by the S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it unsafe for Greasers to walk alone at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they might get jum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cs were going to do this to Pony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give him a hair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 parents didn’t care abou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Ponyboy had to dissect a worm with his switch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the razor wouldn’t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Nightly Double” is this kind of establish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drive-in the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who stood up to D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oh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Ponyboy was embarra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Dally’s foul language towards the 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of conversation while Cherry &amp; Ponyboy were getting 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Johnny getting beat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oh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 Ponyboy made when Cherry said the Socs had troubles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“if I had worries like that I’d consider myself luck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ry’s action that made Ponyboy run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lapped Pony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rry and Ponyboy realize they both watch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are sun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Ponyboy walked to cool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oys Cherry &amp; Marcia decided to go home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Bob and Ra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 black-handed switch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gotta get better, I figured. They couldn’t get worse. I was wrong.” This is an example of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fore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bject Dally gave to Ponyboy and Joh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money, gun, and/or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Dally told Ponyboy and Johnny to h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an abandoned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gic event that happened to Ponyboy in the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lmost drowned by a S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Johnny turned white when the Socs came to the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was beat up bef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ngs – he knew it was 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Two-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wn Dally told Johnny &amp; Ponyboy to go to (town the church was located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indrixv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e-star hand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Soda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eached his 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Pony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9:33:51Z</dcterms:created>
  <dc:creator>Grant County High School</dc:creator>
  <dc:description/>
  <dc:language>en-US</dc:language>
  <cp:lastModifiedBy>ACSD</cp:lastModifiedBy>
  <dcterms:modified xsi:type="dcterms:W3CDTF">2011-02-24T16:13:48Z</dcterms:modified>
  <cp:revision>54</cp:revision>
  <dc:subject/>
  <dc:title>No Slide Title</dc:title>
</cp:coreProperties>
</file>